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1A8-0F41-46E2-896C-AAAC6C8D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281-57BB-4403-BA90-3BC16619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10E-4177-472F-AD14-1A6EB960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B0B-B5CA-4AA1-A94B-D7EAB906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FCB-074B-459F-9C18-D2B02995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C5B7-BF4B-4697-9B66-4AFBADE8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679-CFD6-41AB-9B57-6937F0A6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FF8C-D060-42C8-8C96-CDF61D54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552C-98E0-4739-9300-9B8D4AB8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54BE-1D30-45DB-8F37-0BB381E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E79-CAE8-4E88-B70F-528CA60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10E-8268-441D-9A78-A16E8531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024-9FFF-455A-ABD0-2EC68AA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8CB-CCF7-49C1-8755-543AF21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629E-A4F8-4BDD-BF99-DFBC578A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1E12-95AF-4304-A8DF-8B9F1507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C72F-1BBA-4553-B9D0-56A9B3F5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FE-B85D-4E8B-8591-F90E98B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A7B-56F2-4727-BEDC-8DEA43F7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CFC-1803-475D-9802-F8E92728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669-CA92-4AC0-B9BB-E28698E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BB1-DDB9-43DE-9F74-4F27EE6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97B-543A-4BE4-9CA8-34DFD06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53C-E50B-4965-844E-D9C796C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34A5-3BB1-463D-B30F-E965B4565A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F414-0E1D-4BD5-9D6A-24F7A510A6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ive Us A 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 5, Lesson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Samuel 19:41-21: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ges 94-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33840" y="1522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2133360" y="1066680"/>
            <a:ext cx="48006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3840" y="31240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60958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In these sketches, the buildings are scraped off the rock. Notice the area in the next slide WITH bui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680"/>
            <a:ext cx="8763120" cy="6789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vid’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560" y="12193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ter, The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bellion of Sh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ntion between the men of Judah and the men of Israel about bringing back the king, v. 19:41-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rebels against David, v. 20:1-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turned to Jerusalem, v.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te of the ten concubines left in the 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Purs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asa is sent to assemble the men of Judah, v. 4-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n the meantime, Abishai sent to pursue after Sheba, v. 20:6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ab kills Amasa, v. 8-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asa’s body pulled off the r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 of Beth-maacah, v. 14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Sla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fled to Abel of Beth-maacah, v. 14-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ise woman negotiates with Joab, v. 16-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, v. 20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organized his officers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23-2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ighting Some Wro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 for 3-year famine, v. 21: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ong to Gibeonites avenged, v. 2-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d 7 sons of Sa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phibosheth spared due to o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ul’s other 2 sons and 7 grandsons offered to the Gibeonites and 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nes of Saul &amp; Jonathan buried with the seven, v. 10-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’s justice was satisfied, v. 14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2:31:44Z</dcterms:created>
  <dc:creator>Terry W. Benton</dc:creator>
  <dc:description/>
  <dc:language>en-US</dc:language>
  <cp:lastModifiedBy>Don Vines</cp:lastModifiedBy>
  <dcterms:modified xsi:type="dcterms:W3CDTF">2005-04-16T01:04:58Z</dcterms:modified>
  <cp:revision>6</cp:revision>
  <dc:subject/>
  <dc:title>Give Us A King</dc:title>
</cp:coreProperties>
</file>